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10C-FA64-4DFC-9E3A-173B857C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D8E-07EE-49D1-9356-7DA9F0C9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91E-9D7F-47C7-80B3-5EF3420B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467-6555-4E8F-9829-3B2E2BCF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E3B-4B80-4686-AFC4-639A748A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BD9F-FD8C-4803-B6DB-8BFAA47E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777-E864-48B6-AE6D-D7A617D5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CBD-15B0-4C07-980C-E3DEA129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11D-E762-4D54-8C99-98701338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45E-BCC4-4818-909B-6A77F484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F24-E6B2-44F3-AE4C-68DB7F23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1FD-7D73-456A-995E-2F87A388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8217F829-82F7-44ED-9E74-4B1693C8CBDC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тод реш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216080"/>
            <a:ext cx="7488000" cy="61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820116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0024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7188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144960" y="8201160"/>
            <a:ext cx="170496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87880" y="8201160"/>
            <a:ext cx="1743120" cy="171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7880" y="7840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32600" y="8201160"/>
            <a:ext cx="169560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6132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58:10Z</dcterms:modified>
  <cp:revision>3</cp:revision>
  <dc:subject/>
  <dc:title>Слайд 1</dc:title>
</cp:coreProperties>
</file>