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BFB5-4D89-4033-B0B6-0B86A049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3802-52BD-41CD-B670-8AF5BA33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6A49-A0D0-4846-87B2-B475612D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F7D6-D9CB-4B6A-BD6E-A85B9F04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541-A074-4AAD-AB2B-BF990463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CBEB-C670-43C7-AC9A-336B0111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E65-9FD6-430F-9FB5-E2FE6DAF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161A-CA92-40DF-B850-8C406E25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47EB-E371-4010-BA0E-6AFCEB52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9394-3197-40D0-915F-E8B8F622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BD97-A3BE-4763-8A94-2154DEAB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6231-071C-4FA2-8287-060E3275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E5E6A52C-516C-488F-B22D-84D74D309164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04960" y="3376440"/>
            <a:ext cx="1366920" cy="1314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20960" y="3592440"/>
            <a:ext cx="4969080" cy="455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31880" y="1360440"/>
            <a:ext cx="6985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йдер, устремленный в центр объекта из 4 флип-флопов, погибает вместе с объектом, с 2 и 4 глайдерами (летящих с разных сторон происходит то-же самое). Но конфигурация из 3 глайдеров дает долгоживущую популяцию, в процессе эволюции которой выстреливаются глайдеры и образуются различные циклические констр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20960" y="316080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аль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84600" y="3160800"/>
            <a:ext cx="38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еч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87520" y="841680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которые циклические конструк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415880" y="9425160"/>
            <a:ext cx="4191120" cy="695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15880" y="10504440"/>
            <a:ext cx="4200840" cy="84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44600" y="899316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йд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15880" y="10145880"/>
            <a:ext cx="60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смический кораб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54:05Z</dcterms:modified>
  <cp:revision>5</cp:revision>
  <dc:subject/>
  <dc:title>Слайд 1</dc:title>
</cp:coreProperties>
</file>