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D3B-F706-4DEC-99BA-5E4780CA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4B4-3D4A-4C60-9635-129793FB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6FC-9480-45B9-9E02-A3BE00DC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C104-2236-4B97-8391-FD2BBAB5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C60-196C-491D-B35A-EC1502FC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B3C-1C32-43CF-98B9-D109B03D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F28-F443-4EB8-9947-D10FA705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08F-6C6B-40C4-AF06-E759FB8B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0AE9-9BE8-43BE-8B76-3AAD92D9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B84-1ED2-422F-9070-AB793AA0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CD13-D694-4A98-BB86-463F123C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399-CC71-4E66-9D47-EFF40252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A350DA22-D5F2-4562-BFCD-9196D655F75D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20840" y="1265400"/>
          <a:ext cx="7635960" cy="74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265400"/>
                    <a:ext cx="7635960" cy="74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9880" y="6688080"/>
            <a:ext cx="7993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28:07Z</dcterms:modified>
  <cp:revision>4</cp:revision>
  <dc:subject/>
  <dc:title>Слайд 1</dc:title>
</cp:coreProperties>
</file>