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57B-C69E-41CF-9DD7-DD7F3949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FD5-2B4F-4595-85B3-1E86E791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0CC-A4E5-4021-8E1B-D781E515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ED8-29CE-496B-A4D2-3D4F4F74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7C9-E4CD-415E-8C87-9BDFE264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9A2-B742-4555-9A9D-69862AFC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D9D-6C4F-4747-BCBB-90CB1DFA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AFB-8BDF-4401-8B4D-6B820180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81E-DBF9-410A-A19C-B3C3EDB6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196-8EE5-411A-81A5-74597F6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063-375A-48BC-A642-9E3E5AAA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397-90B3-4DEF-B539-9BEB035D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2810-C5B3-4347-A7F8-BA11BCFCD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ное средство «Демограф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7640" y="5877000"/>
            <a:ext cx="4064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: студент группы 05 МОС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сонов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ая цель курсов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программное средство, предоставляющее возможность проводить анализ демографической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следуемы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414972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понятный и доступны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852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еть и реализовать алгоритм         анализа демографически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создании ПС интегрировать в него базу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44500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язы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работы с базам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– средство для рационального и эффективного хран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50028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= 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365720"/>
            <a:ext cx="82296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БД –ЯМД(языки манипулирования данными)+ СУБД(системы управления базами дан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QL - разработан в 1974 году фирмой IBM для экспериментальной реляционной СУБД System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645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анный мом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язык ба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ональная 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0750" t="18136" r="19369" b="11855"/>
          <a:stretch/>
        </p:blipFill>
        <p:spPr>
          <a:xfrm>
            <a:off x="2771640" y="1773360"/>
            <a:ext cx="37450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1544" t="23073" r="24903" b="40838"/>
          <a:stretch/>
        </p:blipFill>
        <p:spPr>
          <a:xfrm>
            <a:off x="2771640" y="4581360"/>
            <a:ext cx="33829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71640" y="1341360"/>
            <a:ext cx="7427880" cy="5112000"/>
            <a:chOff x="971640" y="1341360"/>
            <a:chExt cx="7427880" cy="51120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971640" y="1341360"/>
              <a:ext cx="7427880" cy="51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971640" y="1341360"/>
              <a:ext cx="742788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проведенной работы, было создано ПС «Демография» и с помощью него была проанализирована демографическая ситу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8:31:44Z</dcterms:created>
  <dc:creator>Константин</dc:creator>
  <dc:description/>
  <dc:language>en-US</dc:language>
  <cp:lastModifiedBy>Константин</cp:lastModifiedBy>
  <dcterms:modified xsi:type="dcterms:W3CDTF">2007-05-31T19:34:15Z</dcterms:modified>
  <cp:revision>20</cp:revision>
  <dc:subject/>
  <dc:title>Программное средство «Демография»</dc:title>
</cp:coreProperties>
</file>