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D75-1A68-458C-9D1D-E0EF7235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D81-2C80-4763-A475-8676ACBF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6DF7-A9B9-4A20-8C1E-A614F768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BE16-0D8E-4340-B78F-6636DDD8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383-95F2-4E25-B643-56923C57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928-D705-4CD7-B810-652CC16F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1D8-E9A2-4143-A027-E047ADCB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44BC-ED35-4C07-9CBA-4E3F7C09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903-2D6F-4ABD-A807-D1A892BE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F7E9-329E-47EC-A75C-CC3BD3AF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DA39-072A-4146-8CC5-F026B93F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7E1-9109-4345-B24F-022C07C2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30213077-3499-4EAF-8B8B-448072BB7167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становка задач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6960" y="1360440"/>
            <a:ext cx="8137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дача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азработать программу, моделирующую жизнь поколений гипотетических колоний живых клеток, которые выживают, размножаются или погибают в соответствии со следующими правил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живая клетка имеет меньше 2 или более 3 соседей в окрестности из 8 клеток то в следующем поколении она умирает (моделирование реальных условий - недостатка питания или перенаселенности), в противном случае она выжива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В пустой клетке появляется живая клетка, если у исходной клетки ровно 3 сос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чем процесс рож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гибели происходит за 1 ш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79880" y="3087720"/>
            <a:ext cx="1981080" cy="885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28960" y="308772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56240" y="4600440"/>
            <a:ext cx="914400" cy="8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560600" y="460044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984240" y="582444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37:34Z</dcterms:modified>
  <cp:revision>2</cp:revision>
  <dc:subject/>
  <dc:title>Слайд 1</dc:title>
</cp:coreProperties>
</file>