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F17-EA03-4DEA-B7CA-D7C59BCD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CC1-6A68-4482-B4F2-9D6A6140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2AF-EDD4-45E2-B1CB-77A4183A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603-4AE3-4456-8511-6D9A3D29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870-0841-4A82-9F43-9010D93A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6D7-62B5-47E5-9C33-CA0E61CD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73E-822D-4C09-8AC8-4E5B6A13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ACE-D776-4B6E-8FF7-8515395E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406-23CE-44D4-9CC2-98FD6E2D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2EC-FE97-4C94-A01D-9C87C947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13D-32F1-467A-9C84-19547319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236-6C6F-4D8B-A9CF-AC848CFC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114378C4-36F6-46FF-BA74-0E2914EE974F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тод реш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216080"/>
            <a:ext cx="7488000" cy="61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820116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0024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7188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144960" y="8201160"/>
            <a:ext cx="170496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87880" y="8201160"/>
            <a:ext cx="1743120" cy="171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7880" y="7840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32600" y="8201160"/>
            <a:ext cx="169560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6132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58:10Z</dcterms:modified>
  <cp:revision>3</cp:revision>
  <dc:subject/>
  <dc:title>Слайд 1</dc:title>
</cp:coreProperties>
</file>